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7363-FE3F-419B-A94F-F390865F30AC}" type="slidenum">
              <a:rPr b="0" lang="hr-HR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pping of floods and min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A79-8F22-4D34-874F-F02D7CA8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454-E0FD-4989-A8BE-75DEDFC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3F6-45C5-4524-9449-7EE2F7F2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56B-EE21-4684-9792-1CB12BDB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C552-4091-4D23-81EB-E5768D21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AA2D-5E04-46B6-83F1-C1060019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153C-EE3A-4205-B1C5-5256CC3B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B86A-E99F-403C-9B8F-74F0AD2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D81C-FBC1-4073-A43B-CC3E70A5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8605-1D3E-4D0D-8770-70D93AE4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6FAE-F912-42F8-9752-DF89C51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B4A-5F6A-4BBD-9825-FFC323F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B9EB-FF35-48A0-A429-40CEED51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B496-B303-4E94-B84C-C707AC2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205F-8E11-41EF-AD2B-00C9B92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D211-F966-441A-8D0E-CEB76DB8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7E1-4998-4C76-A0E4-9CB8F8F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F5A-9006-4780-A675-4A0D877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CC6-D86E-4C7C-9891-4770F3F8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50B-CDDF-4E77-B9D6-28AF745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0A5-952C-4ECD-B368-0AF35A3B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E20-EF27-4ED9-A8ED-CBE66E21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F79-89BE-44CD-86C1-870565AC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803-F05E-428B-8148-836CDC0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C07-C586-40E6-BD96-F3D14026CCB7}" type="slidenum"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2D61-6F2D-40B3-B639-785B3C4996BA}" type="slidenum"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0016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95280" y="1413000"/>
            <a:ext cx="8280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ECTORAL PRIORITIES IN THE BRČKO DISTRICT OF B&amp;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32968"/>
                </a:solidFill>
                <a:latin typeface="Arial"/>
              </a:rPr>
              <a:t>updated</a:t>
            </a:r>
            <a:r>
              <a:rPr b="0" lang="en-US" sz="3600" spc="-1" strike="noStrike">
                <a:solidFill>
                  <a:srgbClr val="932968"/>
                </a:solidFill>
                <a:latin typeface="Arial"/>
              </a:rPr>
              <a:t>: O</a:t>
            </a:r>
            <a:r>
              <a:rPr b="0" lang="hr-HR" sz="3600" spc="-1" strike="noStrike">
                <a:solidFill>
                  <a:srgbClr val="932968"/>
                </a:solidFill>
                <a:latin typeface="Arial"/>
              </a:rPr>
              <a:t>ctober</a:t>
            </a:r>
            <a:r>
              <a:rPr b="0" lang="en-US" sz="3600" spc="-1" strike="noStrike">
                <a:solidFill>
                  <a:srgbClr val="932968"/>
                </a:solidFill>
                <a:latin typeface="Arial"/>
              </a:rPr>
              <a:t> 20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08080" y="1773360"/>
            <a:ext cx="8935920" cy="2881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24000" y="4365720"/>
            <a:ext cx="8569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ECTOR: CIVIL 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DMINISTRATIVE BODY: DEPARTMENT FOR PUBLIC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Integral project of strengthening the civil protection capacities through procurement of equipment for protection of life and property of citiz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TAL VALUE: BAM 6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68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346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826920" y="333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OF FLOODS AND MINE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684360" y="490680"/>
            <a:ext cx="8045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3800" cy="2657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539640" y="333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3465360"/>
            <a:ext cx="835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PUBLIC UT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Construction of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and secondary water supply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in Vučilov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1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Detailed hydr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logical research of the northern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jevica moun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0,5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3" descr=""/>
          <p:cNvPicPr/>
          <p:nvPr/>
        </p:nvPicPr>
        <p:blipFill>
          <a:blip r:embed="rId1"/>
          <a:stretch/>
        </p:blipFill>
        <p:spPr>
          <a:xfrm>
            <a:off x="284040" y="765000"/>
            <a:ext cx="8529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7534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8360" y="4365720"/>
            <a:ext cx="8353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AGRICULTURE, FORESTRY AND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Regulation of Brka and Zovičica rivers in the urban area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of B&amp;H – phases II, III and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6,5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0000" y="509760"/>
            <a:ext cx="773280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28680" y="1628640"/>
            <a:ext cx="8815320" cy="2565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9640" y="414972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PUBLIC ROAD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PUBLIC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Integral project of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mages caused b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75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24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0:54:30Z</dcterms:created>
  <dc:creator>Silver</dc:creator>
  <dc:description/>
  <dc:language>en-US</dc:language>
  <cp:lastModifiedBy>operater</cp:lastModifiedBy>
  <dcterms:modified xsi:type="dcterms:W3CDTF">2014-10-15T11:05:04Z</dcterms:modified>
  <cp:revision>8</cp:revision>
  <dc:subject/>
  <dc:title>Pregled sektorskih prioriteta  Brčko distrikta BiH Ažurirano Oktobar 2014</dc:title>
</cp:coreProperties>
</file>